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1FE7-5ACE-4B97-9A81-6657CFA98B9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AD18-D64A-44AC-91D7-A56B2A1994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83AB-6856-4657-BF70-2CAB2155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3A1F-9447-4BD4-9577-1A3EEAA0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1405-8E3E-43C7-BE0D-ABA020D6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E9D4-59F2-4558-B186-38349D19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F83C-C520-4CCE-AF32-FF28E782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02FA-92FE-46B5-AE87-178E4A0D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C6BB-9CA5-41D8-BE0C-138B5819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EF49-82AF-403A-99CF-4C2E1D1C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9B2A-DE22-437C-BACE-76B7C4BBC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98EC-4E02-4364-B8E1-7A84484F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4F51-486D-4B88-B6C3-9960509E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FD43-55CD-46CD-9D8E-69E8BF9A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69D7-B145-4771-9251-2C9D4BAB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62DC-1042-4A59-A012-A24128B5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BCBF-5C11-4077-BC4D-A398F512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AA12-A9FC-476F-AA32-32312948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D6F0-D2E4-4978-9416-69EA5AB9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BD3B-AF4E-4F7D-943E-20473C0A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4AA8-6EB0-4FA5-AC71-280CE0F64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04B6-3F0B-4359-AA74-841A9A21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CE9F-BD35-4A49-A0CE-912EA7BB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81FD-F597-4E67-98FC-BF182ECD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1EAD-780A-4FB3-B46D-83EC29CB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A606-A9BB-46D4-AB95-50F49CAC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FC02-E857-43B9-B575-038C27AB18F3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250920" y="1341360"/>
            <a:ext cx="86508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116000" y="1341360"/>
            <a:ext cx="863640" cy="287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1979640" y="1341360"/>
            <a:ext cx="863640" cy="287280"/>
          </a:xfrm>
          <a:prstGeom prst="rect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2843280" y="1341360"/>
            <a:ext cx="865080" cy="287280"/>
          </a:xfrm>
          <a:prstGeom prst="rect">
            <a:avLst/>
          </a:prstGeom>
          <a:solidFill>
            <a:srgbClr val="cc00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4572000" y="1341360"/>
            <a:ext cx="863640" cy="287280"/>
          </a:xfrm>
          <a:prstGeom prst="rect">
            <a:avLst/>
          </a:prstGeom>
          <a:solidFill>
            <a:srgbClr val="9900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3708360" y="1341360"/>
            <a:ext cx="863640" cy="287280"/>
          </a:xfrm>
          <a:prstGeom prst="rect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5435640" y="1341360"/>
            <a:ext cx="865080" cy="287280"/>
          </a:xfrm>
          <a:prstGeom prst="rect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6300720" y="1341360"/>
            <a:ext cx="863640" cy="28728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7164360" y="1341360"/>
            <a:ext cx="863640" cy="287280"/>
          </a:xfrm>
          <a:prstGeom prst="rect">
            <a:avLst/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8028000" y="1349280"/>
            <a:ext cx="86508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250920" y="1341360"/>
            <a:ext cx="86508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116000" y="1341360"/>
            <a:ext cx="863640" cy="287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1979640" y="1341360"/>
            <a:ext cx="863640" cy="287280"/>
          </a:xfrm>
          <a:prstGeom prst="rect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2843280" y="1341360"/>
            <a:ext cx="865080" cy="287280"/>
          </a:xfrm>
          <a:prstGeom prst="rect">
            <a:avLst/>
          </a:prstGeom>
          <a:solidFill>
            <a:srgbClr val="cc00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4572000" y="1341360"/>
            <a:ext cx="863640" cy="287280"/>
          </a:xfrm>
          <a:prstGeom prst="rect">
            <a:avLst/>
          </a:prstGeom>
          <a:solidFill>
            <a:srgbClr val="9900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3708360" y="1341360"/>
            <a:ext cx="863640" cy="287280"/>
          </a:xfrm>
          <a:prstGeom prst="rect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5435640" y="1341360"/>
            <a:ext cx="865080" cy="287280"/>
          </a:xfrm>
          <a:prstGeom prst="rect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6300720" y="1341360"/>
            <a:ext cx="863640" cy="28728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7164360" y="1341360"/>
            <a:ext cx="863640" cy="287280"/>
          </a:xfrm>
          <a:prstGeom prst="rect">
            <a:avLst/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8028000" y="1349280"/>
            <a:ext cx="86508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684360" y="26028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rebuchet MS"/>
                <a:ea typeface="Calibri"/>
              </a:rPr>
              <a:t>PRIMARY SCIENCE</a:t>
            </a:r>
            <a:endParaRPr b="0" lang="en-US" sz="3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rebuchet MS"/>
                <a:ea typeface="Calibri"/>
              </a:rPr>
              <a:t>Education Consultancy</a:t>
            </a:r>
            <a:endParaRPr b="0" lang="en-US" sz="23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F78F-B408-4E7E-ADDF-3E6C4E9FB69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aomi@primary-science.co.uk" TargetMode="External"/><Relationship Id="rId2" Type="http://schemas.openxmlformats.org/officeDocument/2006/relationships/hyperlink" Target="http://www.primary-science.co.uk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360" y="2130120"/>
            <a:ext cx="5759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new science curriculum for Years 5 and 6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Led by Naomi Hisc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naomi@primary-science.co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primary-science.co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esting electrolycra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it conduct electric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it matter where you connec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happens when you stretch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es the amount of stretch affect the light from the bul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Classification of living thing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4" name="Picture 2" descr="http://i.telegraph.co.uk/multimedia/archive/02183/baby-max_2183067b.jpg"/>
          <p:cNvPicPr/>
          <p:nvPr/>
        </p:nvPicPr>
        <p:blipFill>
          <a:blip r:embed="rId1"/>
          <a:stretch/>
        </p:blipFill>
        <p:spPr>
          <a:xfrm>
            <a:off x="611280" y="1989000"/>
            <a:ext cx="3028680" cy="1895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www.southbham.cats.org.uk/uploads/images/pages/cat-stalking-crop.jpg"/>
          <p:cNvPicPr/>
          <p:nvPr/>
        </p:nvPicPr>
        <p:blipFill>
          <a:blip r:embed="rId2"/>
          <a:stretch/>
        </p:blipFill>
        <p:spPr>
          <a:xfrm>
            <a:off x="6141960" y="1844640"/>
            <a:ext cx="2563920" cy="2746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http://static.guim.co.uk/sys-images/Guardian/Pix/pictures/2008/12/06/butterfly-460x276.jpg"/>
          <p:cNvPicPr/>
          <p:nvPr/>
        </p:nvPicPr>
        <p:blipFill>
          <a:blip r:embed="rId3"/>
          <a:stretch/>
        </p:blipFill>
        <p:spPr>
          <a:xfrm>
            <a:off x="576360" y="4249800"/>
            <a:ext cx="3063600" cy="1838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https://encrypted-tbn0.gstatic.com/images?q=tbn:ANd9GcTfIhvnOch1jdbxkv2NFL8TXs4aaJdDfgSc31qCMxrcR8G2NJeZ"/>
          <p:cNvPicPr/>
          <p:nvPr/>
        </p:nvPicPr>
        <p:blipFill>
          <a:blip r:embed="rId4"/>
          <a:stretch/>
        </p:blipFill>
        <p:spPr>
          <a:xfrm>
            <a:off x="6291360" y="464184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http://wallpapers.hdwallpaperhdpictures.in/plog-content/images/desktop-images/flowering-plants/images_flowering-plants_68_500x500.jpg"/>
          <p:cNvPicPr/>
          <p:nvPr/>
        </p:nvPicPr>
        <p:blipFill>
          <a:blip r:embed="rId5"/>
          <a:stretch/>
        </p:blipFill>
        <p:spPr>
          <a:xfrm>
            <a:off x="4075200" y="5014800"/>
            <a:ext cx="1619280" cy="1538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0" descr="http://www.kenthovindblog.com/wp-content/uploads/2010/10/7P9TD00Z.jpg"/>
          <p:cNvPicPr/>
          <p:nvPr/>
        </p:nvPicPr>
        <p:blipFill>
          <a:blip r:embed="rId6"/>
          <a:stretch/>
        </p:blipFill>
        <p:spPr>
          <a:xfrm>
            <a:off x="3924360" y="2022480"/>
            <a:ext cx="211932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lants and anim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the main differences between plants and anim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Additional living thing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3" name="Picture 2" descr="http://www.microbiologyonline.org.uk/themed/sgm/img/slideshows/3.1.4_fungi_5.png"/>
          <p:cNvPicPr/>
          <p:nvPr/>
        </p:nvPicPr>
        <p:blipFill>
          <a:blip r:embed="rId1"/>
          <a:stretch/>
        </p:blipFill>
        <p:spPr>
          <a:xfrm>
            <a:off x="457200" y="1916280"/>
            <a:ext cx="2109960" cy="1398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http://www.icare4autism.org/wp-content/uploads/2012/05/yeast.jpg"/>
          <p:cNvPicPr/>
          <p:nvPr/>
        </p:nvPicPr>
        <p:blipFill>
          <a:blip r:embed="rId2"/>
          <a:stretch/>
        </p:blipFill>
        <p:spPr>
          <a:xfrm>
            <a:off x="3132000" y="1916280"/>
            <a:ext cx="2303640" cy="2219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http://www.foodsubs.com/Photos/lageryeast.jpg"/>
          <p:cNvPicPr/>
          <p:nvPr/>
        </p:nvPicPr>
        <p:blipFill>
          <a:blip r:embed="rId3"/>
          <a:stretch/>
        </p:blipFill>
        <p:spPr>
          <a:xfrm>
            <a:off x="3127320" y="4152960"/>
            <a:ext cx="2308320" cy="2259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http://upload.wikimedia.org/wikipedia/commons/thumb/b/b4/SalmonellaNIAID.jpg/220px-SalmonellaNIAID.jpg"/>
          <p:cNvPicPr/>
          <p:nvPr/>
        </p:nvPicPr>
        <p:blipFill>
          <a:blip r:embed="rId4"/>
          <a:stretch/>
        </p:blipFill>
        <p:spPr>
          <a:xfrm>
            <a:off x="5724360" y="1916280"/>
            <a:ext cx="2651400" cy="22190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457200" y="4152960"/>
            <a:ext cx="245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 these plants or animals or a different group?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Jigsaw activit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9" name="Picture 2" descr="http://walpaperhdd.com/wp-content/uploads/2013/11/Sea-Fish-Wallpaper-Picture-Download-Wallpaper-HD.jpg"/>
          <p:cNvPicPr/>
          <p:nvPr/>
        </p:nvPicPr>
        <p:blipFill>
          <a:blip r:embed="rId1"/>
          <a:stretch/>
        </p:blipFill>
        <p:spPr>
          <a:xfrm>
            <a:off x="480960" y="1916280"/>
            <a:ext cx="2665440" cy="1998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ttp://www.southbham.cats.org.uk/uploads/images/pages/cat-stalking-crop.jpg"/>
          <p:cNvPicPr/>
          <p:nvPr/>
        </p:nvPicPr>
        <p:blipFill>
          <a:blip r:embed="rId2"/>
          <a:stretch/>
        </p:blipFill>
        <p:spPr>
          <a:xfrm>
            <a:off x="6516720" y="1773360"/>
            <a:ext cx="1930320" cy="2066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http://images.nationalgeographic.com/wpf/media-live/photos/000/006/cache/saltwater-crocodile_696_600x450.jpg"/>
          <p:cNvPicPr/>
          <p:nvPr/>
        </p:nvPicPr>
        <p:blipFill>
          <a:blip r:embed="rId3"/>
          <a:stretch/>
        </p:blipFill>
        <p:spPr>
          <a:xfrm>
            <a:off x="3635280" y="1908000"/>
            <a:ext cx="2573280" cy="1928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http://upload.wikimedia.org/wikipedia/commons/3/39/European_Common_Frog_Rana_temporaria.jpg"/>
          <p:cNvPicPr/>
          <p:nvPr/>
        </p:nvPicPr>
        <p:blipFill>
          <a:blip r:embed="rId4"/>
          <a:stretch/>
        </p:blipFill>
        <p:spPr>
          <a:xfrm>
            <a:off x="5008680" y="4149720"/>
            <a:ext cx="3066840" cy="1916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http://www.rspb.org.uk/Images/1010177_tcm9-64542.jpg?width=768&amp;crop=(0,176,2604,1640)"/>
          <p:cNvPicPr/>
          <p:nvPr/>
        </p:nvPicPr>
        <p:blipFill>
          <a:blip r:embed="rId5"/>
          <a:stretch/>
        </p:blipFill>
        <p:spPr>
          <a:xfrm>
            <a:off x="826920" y="4151160"/>
            <a:ext cx="3272040" cy="18399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8"/>
          <p:cNvSpPr/>
          <p:nvPr/>
        </p:nvSpPr>
        <p:spPr>
          <a:xfrm>
            <a:off x="457200" y="60660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other animals are similar to your one? Make a list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characteristics do all these examples share?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Other anim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imals do not fit into one of these grou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y questions ari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Unusual animal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8" name="Picture 4" descr="http://i.telegraph.co.uk/multimedia/archive/01606/bat_1606313c.jpg"/>
          <p:cNvPicPr/>
          <p:nvPr/>
        </p:nvPicPr>
        <p:blipFill>
          <a:blip r:embed="rId1"/>
          <a:stretch/>
        </p:blipFill>
        <p:spPr>
          <a:xfrm>
            <a:off x="4716360" y="1994040"/>
            <a:ext cx="3816360" cy="23889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http://ichef.bbci.co.uk/naturelibrary/images/ic/credit/640x395/k/ki/killer_whale/killer_whale_1.jpg"/>
          <p:cNvPicPr/>
          <p:nvPr/>
        </p:nvPicPr>
        <p:blipFill>
          <a:blip r:embed="rId2"/>
          <a:stretch/>
        </p:blipFill>
        <p:spPr>
          <a:xfrm>
            <a:off x="611280" y="4691160"/>
            <a:ext cx="2751120" cy="1698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http://crazy-frankenstein.com/free-wallpapers-files/animal-wallpapers/kangaroo-wallpapers/kangaroo-mother-with-baby-animal-wallpapers.jpg"/>
          <p:cNvPicPr/>
          <p:nvPr/>
        </p:nvPicPr>
        <p:blipFill>
          <a:blip r:embed="rId3"/>
          <a:stretch/>
        </p:blipFill>
        <p:spPr>
          <a:xfrm>
            <a:off x="3656160" y="468936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http://www.plantedtank.net/forums/images/fish/373_Axolotl_Ambystoma_mexicanum.e.jpg"/>
          <p:cNvPicPr/>
          <p:nvPr/>
        </p:nvPicPr>
        <p:blipFill>
          <a:blip r:embed="rId4"/>
          <a:stretch/>
        </p:blipFill>
        <p:spPr>
          <a:xfrm>
            <a:off x="6346800" y="4689360"/>
            <a:ext cx="2192400" cy="1627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http://startswithabang.com/wp-content/uploads/2009/03/platypus-ausepa3.jpg"/>
          <p:cNvPicPr/>
          <p:nvPr/>
        </p:nvPicPr>
        <p:blipFill>
          <a:blip r:embed="rId5"/>
          <a:stretch/>
        </p:blipFill>
        <p:spPr>
          <a:xfrm>
            <a:off x="401760" y="1994040"/>
            <a:ext cx="401616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Create a branching databas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ose one animal from each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yes/no questions to sort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 the branching database with different animals. Does it always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Observing over tim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66" name="Picture 2" descr="http://edplace.com/userfiles/image/sand%20sun%20dial.jpg"/>
          <p:cNvPicPr/>
          <p:nvPr/>
        </p:nvPicPr>
        <p:blipFill>
          <a:blip r:embed="rId1"/>
          <a:stretch/>
        </p:blipFill>
        <p:spPr>
          <a:xfrm>
            <a:off x="2359080" y="2554200"/>
            <a:ext cx="3989160" cy="26640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4"/>
          <p:cNvSpPr/>
          <p:nvPr/>
        </p:nvSpPr>
        <p:spPr>
          <a:xfrm>
            <a:off x="468360" y="4186080"/>
            <a:ext cx="16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will happen next, after an hour?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395280" y="22305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is this picture of?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6586560" y="4010040"/>
            <a:ext cx="216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will happen next, after six hours?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6586560" y="1969920"/>
            <a:ext cx="223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would it have been like an hour before this picture was taken?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1" name="TextBox 10"/>
          <p:cNvSpPr/>
          <p:nvPr/>
        </p:nvSpPr>
        <p:spPr>
          <a:xfrm>
            <a:off x="2843280" y="5400720"/>
            <a:ext cx="32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would it have been like twelve hours before this picture was taken?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Research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what you want to know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be familiar with the changes in the new curriculum and how these affect current curriculum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xplore in more detail working scientifically and on going pro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identify areas for support in the nex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attern seek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ually linked to plants, animals and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Balloon rocket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e how you can control how far the balloon rocket tra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ry out systematic investigations so that you can control how far it g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http://cse.ssl.berkeley.edu/energy/Resources/Living%20With%20a%20Star/------START%20HERE-------/3/images_3/illo_06b.gif"/>
          <p:cNvPicPr/>
          <p:nvPr/>
        </p:nvPicPr>
        <p:blipFill>
          <a:blip r:embed="rId1"/>
          <a:stretch/>
        </p:blipFill>
        <p:spPr>
          <a:xfrm>
            <a:off x="3017880" y="4022640"/>
            <a:ext cx="306684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Working scientificall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lanning different types of scientific enquiries to answer questions, including </a:t>
            </a:r>
            <a:r>
              <a:rPr b="0" lang="en-GB" sz="1900" spc="-1" strike="noStrike">
                <a:solidFill>
                  <a:srgbClr val="0000ff"/>
                </a:solidFill>
                <a:latin typeface="Arial"/>
              </a:rPr>
              <a:t>recognising and controlling variables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where necessar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aking measurements, using a range of scientific equipment, with increasing </a:t>
            </a:r>
            <a:r>
              <a:rPr b="0" lang="en-GB" sz="1900" spc="-1" strike="noStrike">
                <a:solidFill>
                  <a:srgbClr val="0000ff"/>
                </a:solidFill>
                <a:latin typeface="Arial"/>
              </a:rPr>
              <a:t>accuracy and precision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, taking </a:t>
            </a:r>
            <a:r>
              <a:rPr b="0" lang="en-GB" sz="1900" spc="-1" strike="noStrike">
                <a:solidFill>
                  <a:srgbClr val="0000ff"/>
                </a:solidFill>
                <a:latin typeface="Arial"/>
              </a:rPr>
              <a:t>repeat readings when appropriat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recording data and results of increasing complexity using scientific diagrams and labels, classification keys, tables, scatter graphs, bar and line graph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ff"/>
                </a:solidFill>
                <a:latin typeface="Arial"/>
              </a:rPr>
              <a:t>using test results to make predictions to set up further comparative and fair test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reporting and presenting findings from enquiries, including conclusions, causal relationships and explanations of and </a:t>
            </a:r>
            <a:r>
              <a:rPr b="0" lang="en-GB" sz="1900" spc="-1" strike="noStrike">
                <a:solidFill>
                  <a:srgbClr val="0000ff"/>
                </a:solidFill>
                <a:latin typeface="Arial"/>
              </a:rPr>
              <a:t>degree of trust in results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, in oral and written forms such as displays and other presentation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dentifying scientific evidence that has been used to support or refute ideas or argument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Accuracy and precisio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measure precisely if you have the correct equipment and can read the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are accurate in your measurements if they are all close to the ‘true’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the balloon rocket investigation were you accurate and prec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Gap task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planning consider the type of enquiry that children will be 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ppropriate, plan a series of linked investigations so that children can draw on evidence from more than one set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lbs, motors, buzzers, flashing bulbs, wires, batteries, battery holders, bulb 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lectrolycra ut in 3 strips and ha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.5V bat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uble battery 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alog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s, string, straws, sci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he new curriculum - timelin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lised in September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be implemented in year 3 and 4 now, must be in place for September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ear 1 and 5 in place for September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ear 2 and 6 in place for September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rebuchet MS"/>
              </a:rPr>
              <a:t>The new curriculum - rebranding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9992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ientific enquiry is now called working scientifically- it is still at the core of the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2 – life processes and living th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imals, including hum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a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ving things and their habit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2 – materials and their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veryday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es of everyday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tes of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perties and changes of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4 – physical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ces and magn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rth and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he new curriculum - chang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content has g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has m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is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you want to focus on during the next ses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rogression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gression in knowledge is more clearly mappe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k a strand and explore how the year 5 and 6 content builds on other ph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progression clear in all stra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New opportuniti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eater focus on outdoor learning – less so than in other year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opportunity to rethink how we approach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not 6 units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going unit – life cycle of plants and animals yea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Working scientificall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on different types of enqui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oration – making and drawing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ative/fair testing – testing electrolyc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ification – living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servation over time – sun sha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ing – plan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ttern seeking – lung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Exploratio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 as many different circuits as you 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w each circuit and record any additional observ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http://www.bbc.co.uk/bitesize/ks2/science/images/circuit_symbols.gif"/>
          <p:cNvPicPr/>
          <p:nvPr/>
        </p:nvPicPr>
        <p:blipFill>
          <a:blip r:embed="rId1"/>
          <a:stretch/>
        </p:blipFill>
        <p:spPr>
          <a:xfrm>
            <a:off x="2700360" y="3429000"/>
            <a:ext cx="6199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8:55:18Z</dcterms:created>
  <dc:creator>Naomi</dc:creator>
  <dc:description/>
  <dc:language>en-US</dc:language>
  <cp:lastModifiedBy>Naomi Hiscock</cp:lastModifiedBy>
  <dcterms:modified xsi:type="dcterms:W3CDTF">2013-11-22T10:05:10Z</dcterms:modified>
  <cp:revision>82</cp:revision>
  <dc:subject/>
  <dc:title>Science coordinators’ meeting 22nd September 2011</dc:title>
</cp:coreProperties>
</file>